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78E-3F29-4701-AEA2-11C7763E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BD2-1913-4A58-A724-37C77CF5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6BF-0B5E-444B-BA15-241D13D0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9C9-CA90-42D1-9898-BCBFCCD8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9718-8144-404F-AE15-1D318DEF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3C20-0CB7-4569-8394-E4A061E5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0635-B791-46E6-99D0-49A2B8D9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A268-7052-42F4-A6D1-408E34A4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16AC-7590-47CA-A0B5-4D9B126F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4F43-3B00-40AA-9A6B-DA4B480A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5559-64C1-4E65-9E63-C6A2FC0B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EE7-B757-41AC-BB13-EC4EA1B4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2D83-7E1B-46DC-B905-6596D52C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5162-F120-46A4-A3AA-01383BA4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D22D-B0AB-4299-8149-03A85B19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911D-6F58-4ECC-9800-0386B45D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8856-696D-42BE-80D7-726A78DFC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D1E5-6B49-40AE-AF60-7E86206F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6AFE-0779-44F1-9A87-85EFCC48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E460C-6923-4E92-87B7-9716F3EE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FFD7-3E62-4377-BAB2-07CF0274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D7E0B-9E3A-4313-AEA8-06F9808B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0BC0-F80D-479A-9E5C-44FFD703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004A-14F1-414D-9570-49048462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F86F-0D40-4EE2-8592-24ECC9CE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D9381-E939-4363-B329-D4F673FF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8B88E-92D6-4302-A50D-B3ADC099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8D57F-3977-4EA3-A550-EA6E1D15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0BB95-4484-4F43-8AEC-AFAED1F9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36C6-D1A6-4F6A-9E41-68C1B979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7FCDC-71EF-48CF-9F2C-D8853039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EE1DE-7635-4667-AEBB-FD906918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33E4-2DC5-4A8C-9A94-FC15AA03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917-847C-4A46-B27B-99906F40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53DF-EDA3-472A-85DA-0EB48FEE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81034-B45E-4C2C-8CB6-3126140A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18BFA-5A63-4696-B989-B67EB09F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100B8-ACE9-4832-91AA-6E18EA5D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2441-17BA-4C5D-9014-6D62DC52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67CCD-6A34-4B76-AD24-BA7B97D9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DA077-980D-498A-8E52-21D82355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EEFBD-08BD-4EA6-B32A-0345D152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4C027-8068-4BE0-8F98-40B98D0B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1E8-1270-4C22-90A6-50BE99B1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7AB-5888-4C25-B93A-C827A214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843-8CE8-4C09-AD7D-7A40750E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CE6-1A01-4D47-A8B0-B37C5D08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800-89DC-46A2-9285-2DD80438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f2f2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f2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2f2f2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008A-C515-4FB0-A7D5-FEA586DBCA41}" type="slidenum">
              <a:rPr b="0" lang="en-GB" sz="1200" spc="-1" strike="noStrike">
                <a:solidFill>
                  <a:srgbClr val="2f2f2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4c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C827-021E-4AC4-8917-BC5D3466CD4E}" type="slidenum">
              <a:rPr b="0" lang="en-GB" sz="1200" spc="-1" strike="noStrike">
                <a:solidFill>
                  <a:srgbClr val="d9d4c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9d4c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9d4c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A703-D2F9-4CF8-A261-3EBFEBD5486B}" type="slidenum">
              <a:rPr b="0" lang="en-GB" sz="1200" spc="-1" strike="noStrike">
                <a:solidFill>
                  <a:srgbClr val="d9d4c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1b587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e854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f2f2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2f2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2f2f2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B168-14C0-4152-BB6B-AC06287D433C}" type="slidenum">
              <a:rPr b="0" lang="en-GB" sz="1200" spc="-1" strike="noStrike">
                <a:solidFill>
                  <a:srgbClr val="2f2f2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3" descr=""/>
          <p:cNvPicPr/>
          <p:nvPr/>
        </p:nvPicPr>
        <p:blipFill>
          <a:blip r:embed="rId2"/>
          <a:stretch/>
        </p:blipFill>
        <p:spPr>
          <a:xfrm>
            <a:off x="706320" y="231840"/>
            <a:ext cx="7602480" cy="609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56760" y="857160"/>
            <a:ext cx="8358120" cy="928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Elephant"/>
                <a:ea typeface="Andalus"/>
              </a:rPr>
              <a:t>Dwy dref sy’n agos at yr arfordir yw Aber a Borth. Gwelir bwi (</a:t>
            </a:r>
            <a:r>
              <a:rPr b="0" i="1" lang="cy-GB" sz="1600" spc="-1" strike="noStrike">
                <a:solidFill>
                  <a:srgbClr val="ffffff"/>
                </a:solidFill>
                <a:latin typeface="Elephant"/>
                <a:ea typeface="Andalus"/>
              </a:rPr>
              <a:t>buoy</a:t>
            </a:r>
            <a:r>
              <a:rPr b="0" lang="cy-GB" sz="1600" spc="-1" strike="noStrike">
                <a:solidFill>
                  <a:srgbClr val="ffffff"/>
                </a:solidFill>
                <a:latin typeface="Elephant"/>
                <a:ea typeface="Andalus"/>
              </a:rPr>
              <a:t>) ar gyfeiriant o 077° oddi wrth Aber ac ar gyfeiriant o 202° oddi wrth Borth. Lluniwch y cyfeiriannau hyn a marciwch safle’r bwi yn X.</a:t>
            </a:r>
            <a:r>
              <a:rPr b="0" lang="cy-GB" sz="1600" spc="-1" strike="noStrike">
                <a:solidFill>
                  <a:srgbClr val="ffffff"/>
                </a:solidFill>
                <a:latin typeface="Elephant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Rounded Rectangle 4"/>
          <p:cNvSpPr/>
          <p:nvPr/>
        </p:nvSpPr>
        <p:spPr>
          <a:xfrm>
            <a:off x="642960" y="1857240"/>
            <a:ext cx="7858080" cy="471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604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20"/>
          <p:cNvGrpSpPr/>
          <p:nvPr/>
        </p:nvGrpSpPr>
        <p:grpSpPr>
          <a:xfrm>
            <a:off x="1928880" y="1928880"/>
            <a:ext cx="5572080" cy="4500360"/>
            <a:chOff x="1928880" y="1928880"/>
            <a:chExt cx="5572080" cy="4500360"/>
          </a:xfrm>
        </p:grpSpPr>
        <p:pic>
          <p:nvPicPr>
            <p:cNvPr id="199" name="Group 6" descr=""/>
            <p:cNvPicPr/>
            <p:nvPr/>
          </p:nvPicPr>
          <p:blipFill>
            <a:blip r:embed="rId3"/>
            <a:stretch/>
          </p:blipFill>
          <p:spPr>
            <a:xfrm>
              <a:off x="1928880" y="1928880"/>
              <a:ext cx="5572080" cy="45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19"/>
            <p:cNvSpPr/>
            <p:nvPr/>
          </p:nvSpPr>
          <p:spPr>
            <a:xfrm>
              <a:off x="1937160" y="4392000"/>
              <a:ext cx="42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T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5"/>
          <p:cNvSpPr/>
          <p:nvPr/>
        </p:nvSpPr>
        <p:spPr>
          <a:xfrm>
            <a:off x="571680" y="500040"/>
            <a:ext cx="8072280" cy="585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088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http://media.nasaexplores.com/lessons/02-019/images/protractor5.jpg"/>
          <p:cNvPicPr/>
          <p:nvPr/>
        </p:nvPicPr>
        <p:blipFill>
          <a:blip r:embed="rId2"/>
          <a:stretch/>
        </p:blipFill>
        <p:spPr>
          <a:xfrm>
            <a:off x="3214800" y="3786120"/>
            <a:ext cx="2058840" cy="3214800"/>
          </a:xfrm>
          <a:prstGeom prst="rect">
            <a:avLst/>
          </a:prstGeom>
          <a:ln w="0">
            <a:noFill/>
          </a:ln>
        </p:spPr>
      </p:pic>
      <p:cxnSp>
        <p:nvCxnSpPr>
          <p:cNvPr id="203" name="AutoShape 38"/>
          <p:cNvCxnSpPr/>
          <p:nvPr/>
        </p:nvCxnSpPr>
        <p:spPr>
          <a:xfrm flipV="1">
            <a:off x="3571560" y="4785480"/>
            <a:ext cx="2648520" cy="63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204" name="Picture 3" descr="http://media.nasaexplores.com/lessons/02-019/images/protractor5.jpg"/>
          <p:cNvPicPr/>
          <p:nvPr/>
        </p:nvPicPr>
        <p:blipFill>
          <a:blip r:embed="rId3"/>
          <a:stretch/>
        </p:blipFill>
        <p:spPr>
          <a:xfrm>
            <a:off x="5357880" y="428760"/>
            <a:ext cx="2071800" cy="321120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23"/>
          <p:cNvGrpSpPr/>
          <p:nvPr/>
        </p:nvGrpSpPr>
        <p:grpSpPr>
          <a:xfrm>
            <a:off x="1785960" y="1071360"/>
            <a:ext cx="6000840" cy="4549680"/>
            <a:chOff x="1785960" y="1071360"/>
            <a:chExt cx="6000840" cy="4549680"/>
          </a:xfrm>
        </p:grpSpPr>
        <p:grpSp>
          <p:nvGrpSpPr>
            <p:cNvPr id="206" name="Group 24"/>
            <p:cNvGrpSpPr/>
            <p:nvPr/>
          </p:nvGrpSpPr>
          <p:grpSpPr>
            <a:xfrm>
              <a:off x="1785960" y="1071360"/>
              <a:ext cx="5290920" cy="4544280"/>
              <a:chOff x="1785960" y="1071360"/>
              <a:chExt cx="5290920" cy="4544280"/>
            </a:xfrm>
          </p:grpSpPr>
          <p:grpSp>
            <p:nvGrpSpPr>
              <p:cNvPr id="207" name="Group 25"/>
              <p:cNvGrpSpPr/>
              <p:nvPr/>
            </p:nvGrpSpPr>
            <p:grpSpPr>
              <a:xfrm>
                <a:off x="1785960" y="1071360"/>
                <a:ext cx="5290920" cy="4544280"/>
                <a:chOff x="1785960" y="1071360"/>
                <a:chExt cx="5290920" cy="4544280"/>
              </a:xfrm>
            </p:grpSpPr>
            <p:grpSp>
              <p:nvGrpSpPr>
                <p:cNvPr id="208" name="Group 26"/>
                <p:cNvGrpSpPr/>
                <p:nvPr/>
              </p:nvGrpSpPr>
              <p:grpSpPr>
                <a:xfrm>
                  <a:off x="1785960" y="1071360"/>
                  <a:ext cx="272880" cy="967680"/>
                  <a:chOff x="1785960" y="1071360"/>
                  <a:chExt cx="272880" cy="967680"/>
                </a:xfrm>
              </p:grpSpPr>
              <p:grpSp>
                <p:nvGrpSpPr>
                  <p:cNvPr id="209" name="Group 27"/>
                  <p:cNvGrpSpPr/>
                  <p:nvPr/>
                </p:nvGrpSpPr>
                <p:grpSpPr>
                  <a:xfrm>
                    <a:off x="1790280" y="1071360"/>
                    <a:ext cx="192240" cy="682200"/>
                    <a:chOff x="1790280" y="1071360"/>
                    <a:chExt cx="192240" cy="682200"/>
                  </a:xfrm>
                </p:grpSpPr>
                <p:cxnSp>
                  <p:nvCxnSpPr>
                    <p:cNvPr id="210" name="AutoShape 28"/>
                    <p:cNvCxnSpPr/>
                    <p:nvPr/>
                  </p:nvCxnSpPr>
                  <p:spPr>
                    <a:xfrm flipV="1">
                      <a:off x="1895760" y="1071360"/>
                      <a:ext cx="9360" cy="6825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11" name="AutoShape 29"/>
                    <p:cNvCxnSpPr/>
                    <p:nvPr/>
                  </p:nvCxnSpPr>
                  <p:spPr>
                    <a:xfrm flipH="1">
                      <a:off x="1790280" y="1597320"/>
                      <a:ext cx="192600" cy="108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cxnSp>
              </p:grpSp>
              <p:pic>
                <p:nvPicPr>
                  <p:cNvPr id="212" name="Text Box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5960" y="1743120"/>
                    <a:ext cx="272880" cy="2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213" name="Freeform 31"/>
                <p:cNvSpPr/>
                <p:nvPr/>
              </p:nvSpPr>
              <p:spPr>
                <a:xfrm>
                  <a:off x="2476080" y="1759680"/>
                  <a:ext cx="4600800" cy="3855960"/>
                </a:xfrm>
                <a:prstGeom prst="pi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  <a:effectLst>
                  <a:outerShdw dist="38160" dir="5400000" blurRad="0" rotWithShape="0">
                    <a:srgbClr val="000000">
                      <a:alpha val="4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2"/>
                <p:cNvSpPr/>
                <p:nvPr/>
              </p:nvSpPr>
              <p:spPr>
                <a:xfrm>
                  <a:off x="6906600" y="1862640"/>
                  <a:ext cx="169560" cy="17604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f2f2f2"/>
                  </a:solidFill>
                  <a:miter/>
                </a:ln>
                <a:effectLst>
                  <a:outerShdw dist="17819" dir="2700000" blurRad="0" rotWithShape="0">
                    <a:srgbClr val="7f7f7f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3"/>
                <p:cNvSpPr/>
                <p:nvPr/>
              </p:nvSpPr>
              <p:spPr>
                <a:xfrm>
                  <a:off x="3526560" y="5319360"/>
                  <a:ext cx="169560" cy="177120"/>
                </a:xfrm>
                <a:prstGeom prst="ellipse">
                  <a:avLst/>
                </a:prstGeom>
                <a:solidFill>
                  <a:srgbClr val="000000"/>
                </a:solidFill>
                <a:ln w="38160">
                  <a:solidFill>
                    <a:srgbClr val="f2f2f2"/>
                  </a:solidFill>
                  <a:miter/>
                </a:ln>
                <a:effectLst>
                  <a:outerShdw dist="17819" dir="2700000" blurRad="0" rotWithShape="0">
                    <a:srgbClr val="7f7f7f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216" name="AutoShape 34"/>
              <p:cNvCxnSpPr/>
              <p:nvPr/>
            </p:nvCxnSpPr>
            <p:spPr>
              <a:xfrm flipV="1">
                <a:off x="6982560" y="1258560"/>
                <a:ext cx="1080" cy="6876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7" name="AutoShape 35"/>
              <p:cNvCxnSpPr/>
              <p:nvPr/>
            </p:nvCxnSpPr>
            <p:spPr>
              <a:xfrm flipV="1">
                <a:off x="3591000" y="4686480"/>
                <a:ext cx="1080" cy="6876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pic>
          <p:nvPicPr>
            <p:cNvPr id="218" name="Text Box 36" descr=""/>
            <p:cNvPicPr/>
            <p:nvPr/>
          </p:nvPicPr>
          <p:blipFill>
            <a:blip r:embed="rId5"/>
            <a:stretch/>
          </p:blipFill>
          <p:spPr>
            <a:xfrm>
              <a:off x="7049520" y="1779480"/>
              <a:ext cx="737280" cy="34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Text Box 37" descr=""/>
            <p:cNvPicPr/>
            <p:nvPr/>
          </p:nvPicPr>
          <p:blipFill>
            <a:blip r:embed="rId6"/>
            <a:stretch/>
          </p:blipFill>
          <p:spPr>
            <a:xfrm>
              <a:off x="2961360" y="5280120"/>
              <a:ext cx="737280" cy="34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Straight Connector 21"/>
          <p:cNvSpPr/>
          <p:nvPr/>
        </p:nvSpPr>
        <p:spPr>
          <a:xfrm flipH="1">
            <a:off x="5857560" y="1863000"/>
            <a:ext cx="1136520" cy="3279960"/>
          </a:xfrm>
          <a:prstGeom prst="line">
            <a:avLst/>
          </a:prstGeom>
          <a:ln w="9360">
            <a:solidFill>
              <a:srgbClr val="103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26"/>
          <p:cNvGrpSpPr/>
          <p:nvPr/>
        </p:nvGrpSpPr>
        <p:grpSpPr>
          <a:xfrm>
            <a:off x="6000840" y="4500720"/>
            <a:ext cx="1976400" cy="714240"/>
            <a:chOff x="6000840" y="4500720"/>
            <a:chExt cx="1976400" cy="714240"/>
          </a:xfrm>
        </p:grpSpPr>
        <p:sp>
          <p:nvSpPr>
            <p:cNvPr id="222" name="Left Arrow 22"/>
            <p:cNvSpPr/>
            <p:nvPr/>
          </p:nvSpPr>
          <p:spPr>
            <a:xfrm>
              <a:off x="6000840" y="4500720"/>
              <a:ext cx="544680" cy="71424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7030a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23"/>
            <p:cNvSpPr/>
            <p:nvPr/>
          </p:nvSpPr>
          <p:spPr>
            <a:xfrm>
              <a:off x="6500880" y="4500720"/>
              <a:ext cx="1476360" cy="642600"/>
            </a:xfrm>
            <a:prstGeom prst="rect">
              <a:avLst/>
            </a:prstGeom>
            <a:solidFill>
              <a:srgbClr val="7030a0"/>
            </a:solidFill>
            <a:ln w="3816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32060a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Dym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leoliaad 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27"/>
          <p:cNvSpPr/>
          <p:nvPr/>
        </p:nvSpPr>
        <p:spPr>
          <a:xfrm>
            <a:off x="5929200" y="4857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xplosion 1 28"/>
          <p:cNvSpPr/>
          <p:nvPr/>
        </p:nvSpPr>
        <p:spPr>
          <a:xfrm>
            <a:off x="1214280" y="3929040"/>
            <a:ext cx="4071960" cy="242892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Lluniwch y cyfeiriant o 077º oddi wrth Ab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xplosion 1 30"/>
          <p:cNvSpPr/>
          <p:nvPr/>
        </p:nvSpPr>
        <p:spPr>
          <a:xfrm>
            <a:off x="3786120" y="714240"/>
            <a:ext cx="5500800" cy="335772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741b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Lluniwch y cyfeiriant o 202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oddi wrth Bor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Comic Sans MS"/>
              </a:rPr>
              <a:t>Cofiwch bod yr ongl yn fwy na 180º felly lluniwch 360º - 202º = 158º  yn wrthglocwe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17:17Z</dcterms:created>
  <dc:creator> </dc:creator>
  <dc:description/>
  <dc:language>en-US</dc:language>
  <cp:lastModifiedBy>Carwyn</cp:lastModifiedBy>
  <dcterms:modified xsi:type="dcterms:W3CDTF">2008-04-28T20:10:04Z</dcterms:modified>
  <cp:revision>30</cp:revision>
  <dc:subject/>
  <dc:title>Slide 1</dc:title>
</cp:coreProperties>
</file>